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3FE43-D375-43B2-A5FC-F76F1582C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8757C-D37D-4568-A118-BB4682979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DE396-8727-4BC5-B07A-A7ABECA4D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B967B-8A23-4F41-93E0-CB329715E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FD1B7-F5BD-472F-917E-C6C3BAA52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577B2-F944-4469-8A50-D4A3F9142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EDC95-21E4-4FC4-B316-274D35DD2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3A633-A1B2-49FA-A696-A6D01495C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4DA8F-4CA4-4559-9501-EFFF51A22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3279B-C696-4FDE-A38B-5D03FB73C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85321-064E-42E8-AF9C-D66091C59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BDCCF-56D6-4754-82B1-8C1BA833E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7EEB-2AF2-4A7A-B4AC-6C6572EA35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thermal Ener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Jessica ,Katie, Anna &amp;Pai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thermal Energ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othermal Energy comes from heat stored in the ear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nergy comes from the radioactive decay of minerals and solar energy absorbed from Earth’s surf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es from geo meaning earth and thermal meaning heat “earth h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sons to use Geothermal Ener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st effic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friend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newable ener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s just like a normal heat pump except uses heat stored in the Eart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 basic types of geothermal power pl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ry steam plants - use steam piped directly from a geothermal reservoir to turn the generator turbin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lash steam plants - take high-pressure hot water from deep inside the earth and convert it to steam to drive the generator turbines. When the steam cools, it condenses to water and is injected back into the ground to be used over and over again. (the most commonly used typ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inary power plants - transfer the heat from geothermal hot water to another liquid. The heat causes the second liquid to turn to steam which is used to drive a generator turbin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s of geothermal energy</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t pump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t water energy source</a:t>
            </a:r>
            <a:endParaRPr b="0" lang="en-US" sz="32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 plants</a:t>
            </a:r>
            <a:br>
              <a:rPr sz="3200"/>
            </a:br>
            <a:r>
              <a:rPr b="0" lang="en-US" sz="3200" spc="-1" strike="noStrike">
                <a:solidFill>
                  <a:srgbClr val="000000"/>
                </a:solidFill>
                <a:latin typeface="Calibri"/>
              </a:rPr>
              <a:t>	</a:t>
            </a:r>
            <a:r>
              <a:rPr b="0" lang="en-US" sz="2800" spc="-1" strike="noStrike">
                <a:solidFill>
                  <a:srgbClr val="000000"/>
                </a:solidFill>
                <a:latin typeface="Calibri"/>
              </a:rPr>
              <a:t>-California - has 33 geothermal power plants</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Nevada - has 14 geothermal power plants.            </a:t>
            </a:r>
            <a:endParaRPr b="0" lang="en-US" sz="2800" spc="-1" strike="noStrike">
              <a:solidFill>
                <a:srgbClr val="000000"/>
              </a:solidFill>
              <a:latin typeface="Calibri"/>
            </a:endParaRPr>
          </a:p>
          <a:p>
            <a:pPr lvl="1" marL="698400" indent="-268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awaii and Utah - each have one geothermal plant</a:t>
            </a:r>
            <a:endParaRPr b="0" lang="en-US" sz="28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According to the U.S. Environmental Protection Agency (EPA), geothermal heat pumps are the most energy-efficient, environmentally clean, and cost-effective systems for temperature control.”</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Impact</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used properly there is no environmental imp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low emissions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when geothermal drilling occurs greenhouses could be released from inside the earth which could cause global war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2:23:14Z</dcterms:created>
  <dc:creator> </dc:creator>
  <dc:description/>
  <dc:language>en-US</dc:language>
  <cp:lastModifiedBy> </cp:lastModifiedBy>
  <dcterms:modified xsi:type="dcterms:W3CDTF">2009-05-01T12:07:42Z</dcterms:modified>
  <cp:revision>7</cp:revision>
  <dc:subject/>
  <dc:title>Geothermal Energy</dc:title>
</cp:coreProperties>
</file>